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515-9B95-477D-B7F2-86FF231A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B1B-F5FE-4F69-B27F-17C6556B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D9EEC-D699-412E-BE32-8374FB20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2F525-92D2-4D53-B2FF-146B5EC4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40713-3B56-4D8D-B77A-B994864D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D053F-E90C-45B1-AE5C-D0E4491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1CEC4-FA71-4A76-B9EA-13F1881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31F200-30D7-4734-B122-6601D18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AFAEE8-FADB-4D1C-851A-A9C8A973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E0935-D64B-4C6A-B763-B674685B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3D16F-BDCD-4DF6-BD6F-14F6BDC4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F2ECD-AFE0-4829-9119-5D559974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829-81AF-497D-980C-5AEC4853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CF0C0-6DFF-4F86-AB28-9FA3FC92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79E7F-4AB2-4D42-88F1-FD308659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A279C-D638-4399-B3B0-6154C17D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044F8-5E34-4254-9440-5C05B575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B65CA-505A-4C7B-AEC5-5E13EF66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7255E-DDFD-4C39-9F4A-CC07E82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8BEB8-F55C-4778-BDFC-9A92E22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C627C-B3CA-480B-9D1B-FE56E78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0DADF-66E2-41D6-B2C7-A8DEC833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F3FF7-19C3-4D67-976C-6DEBB90E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1C9-2FD2-4C4E-8CB6-954A9B21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3AFE0-CF45-404F-8574-2570DBE3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7D600-8E18-4257-93E6-EAB73512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BCD4A-7D6C-4BB3-BE80-3780BDFE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D5DA1-A703-440E-9193-0200F18D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C398F-F80C-4468-9741-AE5C7997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1EA1D-0C98-442F-A2E7-4B768F0B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5C4F8-B6EB-4123-9D17-008BD9E6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934BD-20F7-4360-B26E-A4D742C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68F12-3889-4576-9342-72298FC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7F7E0-8D92-4F0E-BE46-39293E1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1DD-7DE1-4CB7-B28D-7D4B8C8B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459FA-9D44-4E37-B13B-6B265627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095EA-7F0D-4D72-80DF-23EAF29E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B3DF8-2EA2-4ABF-86B1-CD1677AD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1BCAF-0241-4B43-B5FD-9EDBFE09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59DEA-D150-4A9F-97EB-9DF22E89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FDB6F-9E1B-4DF4-AB01-8D5EFC55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FF041-E4CF-47DA-81D6-60667E77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44CB1-0BFE-4C98-88CD-25E32E65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6A6D8-9E0D-4E25-A034-9FD6A9C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D2A65-B599-45CE-9B7F-1170338B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20B3-E454-4A6D-BC93-403F13D8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D2B7C-03BC-4B12-B4CD-4F48CA61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A14C0-D15F-4C5F-A03A-93C226FB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B2923-2148-4BBB-B64D-D73C754E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E19E4-C791-420C-ABAE-78980D63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5F738-4FFE-470F-96BF-7824658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374AB-73B5-4064-BFF1-F892BB40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B9F2A-899B-438B-8ACA-6C58C6CC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5F48F-C45A-4E60-B27C-101E59FE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085D9-A6F3-4FCD-8DDF-2C84297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50345-391C-4536-80D3-5B7EE117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DDD9-9BEA-44C9-981B-7304E640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4B878-94EC-48F6-BB27-A3B91CC5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59938-90D9-424E-B4C1-A7ADF116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16E41-E703-49B9-A719-ACB7C21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6D05E-98A5-45EE-86A8-D861D11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A2C2F-46B4-4E4D-A9DA-5203BE8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FC660-33E4-4E53-9225-991B2FA7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976F4-9C7A-4719-998B-A063F858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39610-621F-430E-8F5A-17993927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D486F-D29F-4AFD-8FD5-D82199A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3B31D-D535-4E3D-B0A4-5C30CDAA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7104-CE6B-479D-ADC8-6DADD5DB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F192B-0A1F-44A5-AFA1-5F22D917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D1631-6FFC-4C95-884F-C2B1BBCF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52523-04EC-449A-BC5D-A0019C8F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C8B10-A18D-4C20-8373-5A1EFAA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C0AFA-7231-4E19-AB42-E2B129E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575C1-4FA0-415B-AACD-01F687E3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82CE6-9EC9-4273-B291-B733B2ED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06EFF-7BE1-45AA-8A4D-D20891BF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C9FDC-7E75-4C2C-BF56-651E7926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73377-B568-48EA-8A33-55AC2892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B892-4530-41AF-A83D-03B1B06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46FF1-FED5-4A69-B8C4-FFD8EAE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EA6D1-3A43-4574-927E-C7DD605A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A9977-7E8E-492A-9968-BA94E84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8C9FE-E332-43C3-87EC-E9FA1F1F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61F47-F81F-413F-BFAD-9EE92DCA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BFA8D-8316-4425-BCA8-68E20333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4A1C5-247D-4F12-B912-127AD78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70C39-FB20-4228-A2CA-09C362E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BCFA9-5746-4412-8E47-20441C5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E7BB5-484C-42DC-8C4B-A3E8F264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BC3E-1D74-4608-B92C-21ADE994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357E8-0EBE-4D88-A75C-CC92C40C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BE79C-D6D4-48C7-96BD-6AF11557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11943-3912-4D31-A179-5076A614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CD486-4F81-4186-8DA2-2CD89764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9FE7C-FE30-4627-BA17-5440B82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3E75F-F9A0-40A4-B229-D0C7A6DD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03691-D722-4D06-952E-6EA220D9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1EB3C-B670-4A65-8DB2-1AA04C7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69F1D-DB88-4331-903E-C350249D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254E9-160A-4697-8205-9F66DDE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6FC5-375D-43D2-9F3F-6D737B2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AFC49-DD20-40FF-BA8D-8A59F4D9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679E9-5D32-48B0-A952-FA1E15E6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97F84-7242-4B04-8509-32A14EB9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85E01-BAAE-4277-A225-47F8CE50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30919-1927-480F-8C62-061CB5DD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041BA-CD0D-4B52-BAB1-D82724C7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CAFC0-BE09-4CC7-8B5B-6C69D85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22E38-C8EC-438D-B7CB-3A98E07B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EF8BF-6610-4405-8FCD-1E8DBD3C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C73B3-D0BC-416D-B2F6-C5D6E14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C00-3077-42DE-835F-A30CF16B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79C-6A11-4FB6-8DE1-B04882C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45C2D-DA54-49C5-8322-D41931E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36AEB-487E-44FD-A026-0A2DDB4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B6ED7-C8DF-400D-BC53-6F79F862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C2179-A4FA-4D5F-8F89-F4E5CF5E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00E5D-BB1B-4205-AB9E-7BEC9BE1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5166E-FEC5-4ACC-BC5E-961AA626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FBB09-3308-49FC-B268-3DDF711A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B49BBB-705A-4226-9DDC-F79FE083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BD54F-E234-41A4-B1D0-D79955F2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66C1A-765E-4D33-9332-D518920F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4AF-61C5-4CF4-9B79-8CAB03B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8BEE2-D001-4D03-9727-3AC321FD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5A1A6-F367-45FE-BDA0-2DD5A19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8D08D-FFEB-44C6-916B-E12FF8E3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08E80-74D2-41CE-A215-6ACC5202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F8A61-2801-43C1-86AB-9C0D7D39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3410D-FDF4-417C-A2B9-434C99BC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C6A67-0E3B-43D5-B514-B3E89CC1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04178-3CD1-4BA8-B062-30730599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0AA8E-77A7-4310-B5F6-BE4648EC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0E441-84E5-4CE2-A5E9-438D704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BA4-704B-405C-AD34-6107DBDE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3749D-A554-4BBE-9ADC-D7007519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B5369-E75B-4162-A979-73AA4002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B7934-EF41-4089-A905-04AB5FFF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DCF2D-A411-4371-86FC-F59EFEEC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F3F9F-CF57-4DB8-B8C2-EC2A687A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F816B-76AF-4BA9-BA85-7A7A54E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3A9B5-9BEE-4A8F-AF5F-81491ED5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132CE-B76C-4576-BB7D-352E5951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06E4D-DD44-42FF-8793-ACB157DD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430F3-0117-4CF2-992C-7DAD8DFA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5123-B013-4DB6-B94C-D8A27559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0966B-01CC-4A83-99AE-48833D00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00F4B-83EB-413C-B97E-D12D2855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0FAAF-9EA6-45D5-BB2C-C311CE52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8BF6D-0589-4C27-8BF1-9C0D755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ADE8D-D8C0-4D53-ABB1-4AAAA6DD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107BA-EE5D-4EA3-B90D-BFC48889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5A535-3D84-4D40-8585-056EB3E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05FF6-4806-4391-910A-C385204B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FB3C0-282F-46DE-8BDA-40D9ED6C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D9D4B-BB2E-41F6-AFD2-6CBB8244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088-71B5-41F4-A533-F1F000CF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B393F-D95E-4BE2-9B77-57978A91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C02A7-859A-45B8-B624-76601CF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3E550E-90D7-4BD5-9332-9B0BF49A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803478-92AE-4246-8448-CA55141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AF37C-A968-4166-9185-C80AFD60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D8D63-86BB-4060-89B1-DFECB2CE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D8314-C37D-4701-B802-43A9415D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B3181B-6462-484E-9E62-C78C9A9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27655-2E81-411E-B3FC-DBB1532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96049-906E-4F7C-A151-598A0698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88E9-6D78-457B-9177-F5B87EE8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FFF7A5-E76E-411D-9A43-4435E832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E0C0A-DC74-4E46-BFC0-85F33765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2AC1E-6568-43AB-A8C6-7F8F4F5E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8A12F0-F82E-4A9F-9E57-EECE8F4A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35C9E3A-794B-4D52-9C12-6CE554D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5529B1D-DC8D-4707-BCBD-7AEBF0EA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F11B79-DC5D-40FE-BC4A-535F42D0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8AE1DB-F6CD-4CFB-9639-962C9AED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7A9E475-ABFB-4C75-849D-284C580F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342BDC-7BE6-492D-9181-6E4C25DC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B215-F855-4C64-A5F2-B042FC8E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7FEF07-788A-4A4B-A9DD-8B30A3D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A77A39-B958-4A4D-9B00-C190F3D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EC9BAD5-17C6-4EC1-AAD2-29FAFA0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69E851-3278-45EF-8297-91AB8D91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3207B3-68A8-4D82-80D4-6BC6DAA0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A135CA-0F47-463C-A52F-AD464DD3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82A45-C1BB-4C51-A2EB-BB2EDF75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35F42C-48DF-4881-9DEE-6D7FA983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F0367A-C5CB-4722-9986-2AD21F40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0C4EBD-A6C6-4399-96F7-3D32B6D3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5CC0-F10F-4E0D-96DE-1A9050C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3D7233-F200-4A61-9588-41E9C579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B70FD9-1A87-41B4-9295-7E27DB3A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ECB58-5369-4735-8A72-1A4DAF7D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9EB10C-5674-47A7-9A7E-695BA46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2843D2-F780-4C36-9107-B581456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769E99-27C5-441D-AC3A-EF44327B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592A4-4812-4D00-9716-DC83924C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77D046-07AF-489F-9FD0-F0B43D89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A06768-D91C-4261-B748-D4062071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45298E-7004-4E3D-B8BB-77C635AE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67FC-62DF-4384-82DE-E5D4B04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B5339-E7DE-47A6-AD59-AC4558C7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B122A0-164C-41A9-9713-07AEC75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F59FD-E40F-4755-9D5A-D35A5F08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F12D69-B92E-4A2D-8240-5204B77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69253A-8BED-47B8-9CCA-82399EF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BD69C9-9EE7-44FF-B055-E918C55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29AE3F-7B2F-4D71-A708-E283B826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AE70CB-5B89-44A2-97C6-FD77EC22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6B3350-9A39-4584-8085-5811EC2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2AE597-0110-4324-A364-A21FDBFD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692A-891C-4C44-8537-E7D23A0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2BB237-3F80-408A-A07F-EAC31C38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B44161-901B-4FAB-8E2F-F5D6DF9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CA19C1-832E-4587-BE1D-9C8B24E3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A13BD8-512B-4D52-9A37-09E296A4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D525D0-A863-4D13-B750-1AD50A8A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ED95BB-969F-4F67-9139-CD97BB1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0C4350-B569-4EA7-98CF-0230A71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A262B2-0D10-4FE3-BD80-E6CAF53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3E9201-747F-4EED-833E-EFCF83D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2F25CE-68F6-4110-9FBE-3D37E5B2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AD3-C2C7-4AC7-BFB6-414F60AD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F99A-B28C-447B-BD77-617A69CE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FBD115-7126-4686-B2F7-814C5349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7C20-08D9-4872-91AA-F177CE8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699B-4319-4314-B074-671121F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D648-6D3E-4841-9AC6-20AB1058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1382-631F-429E-A945-BADF2AA6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8C0A-BD92-4AB3-997B-7E1EF8C6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6B46-DE7B-4844-B844-07C0CF71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023A2-7B46-4739-9F0A-9BC55424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14F1-3F21-452B-A163-4F9B4EA2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7C4B-62CA-4625-8533-326519BA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808-DAAC-4DF9-937E-CF61C7FD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B8791-A5F1-4E34-B2A1-160AB8FB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7F2B-5B2C-46F5-BF47-024E6A71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02CD-39E9-48C7-995E-7C51AA5C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239D8-1CFF-4B27-AB85-955CC92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88D7-08B5-4EEA-A804-DA07D83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2D074-BA41-4CA8-8303-402CC808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A0BAB-3B9B-4AC6-B142-752B62BB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5DF7-6305-4C0F-870F-9389B71B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109F-FD06-4306-8558-7ACA34CC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8BA2-29AE-48F8-8BB1-1574D27D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965-4881-487E-B2AE-83AE1A16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017E-A2CA-40BE-AC4B-D3E6C770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C633-4ACC-44FA-9609-C3E26D63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407CA-0F23-45FC-BEB8-7DCA459A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8050-3FDC-43DF-88A0-41E35771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EBCCA-FD43-4646-A150-4C043ADC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612D-8D13-43D9-BAC4-F36C332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BC4A-8F42-439C-B348-60EDB43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CE4F8-4D56-4039-B180-DC70D67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A48E-AC4C-4895-A77B-DD0A688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41356-91D5-4D13-92F2-47EC61F0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57A-6028-4488-B0A8-26FA8005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0D4A-29FF-4A55-AC8C-2381680E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16CDE-085A-42AA-9D68-659EF0F0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E32F0-7178-4E91-894D-AF3A3FB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AAA8D-B99C-4AAD-9A2E-E0C01F7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CD66-A47F-4657-A5ED-03E08FEA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62B1-88F2-4E6A-897D-B7AEC99D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A4AA-D04A-4711-9D28-D0292D3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9CAE0-2F42-464F-92C6-76495344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7201-2074-4F47-AAE9-D44C411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F59F-EC80-483D-8F63-ADD918E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C1E-6255-45FA-897D-85379CA6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B94AA-7F45-4664-AD7B-D7AC4EA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F82A-EA2A-41C9-94D6-17ECD045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75A9C-0E16-4CEF-A815-8086AC2E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D570-C632-40EE-BA5C-06ABC138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C37E0-0BA7-4B75-8136-6630210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F737-BEDC-4516-B0F1-EC08276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96069-C3BA-4F47-A32E-78FBBECB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C07F7-3F26-4A5D-86FB-CF1B492A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A3B3F-584F-421E-B7A6-1EB3B5A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F4973-4C9E-484E-9FF8-B7FE6E7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0AC-3259-48EA-A8CB-D4A89F79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1EB9-AF35-4189-8B23-6374EC6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66FA7-42BA-4D1A-8A14-3313B80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023A3-1EBC-4CDD-9D3F-D9D5D7F7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622D-746C-45D0-B3EF-70E51294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72AA-B7E8-4F73-B202-F4EA348B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931E5-0180-4081-A907-A9817AA1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59C59-A912-44DE-B892-4EDADC5F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468D9-5B38-4316-A126-63B39F9E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3E516-3C56-4EDE-86B0-1C0BC79B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A828C-CE32-4E07-9ED5-0E3DE17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9CE-BDA1-4AC7-8B4F-C438BD2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3419B-24C7-4B85-BB6E-D5864060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D12DAB-075E-4A85-8D4D-2494D21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7DBE2D-CADC-45A0-9863-905FDA7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3ADF3-1EDB-4E4B-88A5-AEE09DF9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DB4EF-90AC-413B-A3FA-24F56591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16DC4-A187-454C-8374-3D422E4B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E89B8-BC66-4F8A-BF3C-A529C3DC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9D6664-00D1-4907-B530-85B7AA02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4071DA-80D6-424B-BD69-FA87789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424CF-2007-4CF1-A464-7AE365D6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C5C4-A7B6-4A8C-B16E-3B3A268C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8240-78BB-4A38-89F6-EB3F982826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1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7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73FF-C6F2-451D-8BCE-D169DED654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5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6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E9C0-896D-48F9-A519-ACFFBDD1F1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B52-9AA3-4E66-9111-E5AB8119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E9BD-9F0A-4EC5-ABC9-D9230564BE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91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8" name="PlaceHolder 1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7C05-F15F-4BFB-8818-EF73D60730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98EF-14C3-465B-85F6-566D96D945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9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9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9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9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0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70D-72B2-4965-AFE1-1A4E491EA3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5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5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6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6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5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5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7603-BB8E-4DCE-8612-71723665AE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15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15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16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F17-8C25-49E9-A135-667AE8429E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64E6-C865-4058-9B7F-86CAD589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0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EBFB-2A6B-4DA6-85DF-0A64A16A14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5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69A-61CB-4D4C-8B55-FF08123E6A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A042-664F-4B6B-BA61-E8EDE6663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0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5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8" name="PlaceHolder 1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383-9DA7-416C-B090-F39006214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8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409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7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7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49C1-C01C-46D3-819C-88748A8669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3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54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dt" idx="73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74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75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08DE-C442-46A8-8214-4FD29C23C7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1A48-1C5E-4B28-94AD-603A6E288D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E22E-7E0F-4D70-9070-81A9635AD1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12A-0ABD-4B55-8ADB-E35684AC18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B0F-2C9E-4A08-892A-9B9F9AD7B8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4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4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5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7996-7F3C-4A79-BB8D-FD59CCB9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0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0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684-B446-41E9-A3A8-961A46E6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68EF-5EA0-4179-A3DE-E6393962C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65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Picture 5" descr="Безымянный"/>
          <p:cNvPicPr/>
          <p:nvPr/>
        </p:nvPicPr>
        <p:blipFill>
          <a:blip r:embed="rId1"/>
          <a:stretch/>
        </p:blipFill>
        <p:spPr>
          <a:xfrm>
            <a:off x="1547640" y="2421000"/>
            <a:ext cx="5473800" cy="4076640"/>
          </a:xfrm>
          <a:prstGeom prst="rect">
            <a:avLst/>
          </a:prstGeom>
          <a:ln w="0">
            <a:noFill/>
          </a:ln>
        </p:spPr>
      </p:pic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ffffff"/>
                </a:solidFill>
                <a:uFillTx/>
                <a:latin typeface="Arial"/>
              </a:rPr>
              <a:t>ПРИЗМ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Симметрия правильной призмы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724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Центр симметрии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при четном числе сторон основания — точка пересечения диагоналей правильной призм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1" name="Picture 4" descr="Рис. 12"/>
          <p:cNvPicPr/>
          <p:nvPr/>
        </p:nvPicPr>
        <p:blipFill>
          <a:blip r:embed="rId1"/>
          <a:stretch/>
        </p:blipFill>
        <p:spPr>
          <a:xfrm>
            <a:off x="5580000" y="1989000"/>
            <a:ext cx="3240000" cy="40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2. 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лоскости симметр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плоскость, проходящая через середины боковых ребер; при четном числе сторон основания — плоскости, проходящие через противолежащие реб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3" name="Picture 4" descr="Рис. 13"/>
          <p:cNvPicPr/>
          <p:nvPr/>
        </p:nvPicPr>
        <p:blipFill>
          <a:blip r:embed="rId1"/>
          <a:stretch/>
        </p:blipFill>
        <p:spPr>
          <a:xfrm>
            <a:off x="1187280" y="2852640"/>
            <a:ext cx="662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Picture 5" descr="Рис. 14"/>
          <p:cNvPicPr/>
          <p:nvPr/>
        </p:nvPicPr>
        <p:blipFill>
          <a:blip r:embed="rId1"/>
          <a:stretch/>
        </p:blipFill>
        <p:spPr>
          <a:xfrm>
            <a:off x="1619280" y="2565360"/>
            <a:ext cx="5689440" cy="4292640"/>
          </a:xfrm>
          <a:prstGeom prst="rect">
            <a:avLst/>
          </a:prstGeom>
          <a:ln w="0">
            <a:noFill/>
          </a:ln>
        </p:spPr>
      </p:pic>
      <p:sp>
        <p:nvSpPr>
          <p:cNvPr id="152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3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Оси симмет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при четном числе сторон основания — ось симметрии, проходящая через центры оснований, и оси симметрии, проходящие через точки пересечения диагоналей противолежащих боковых гр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9" descr="images[4]"/>
          <p:cNvPicPr/>
          <p:nvPr/>
        </p:nvPicPr>
        <p:blipFill>
          <a:blip r:embed="rId1"/>
          <a:stretch/>
        </p:blipFill>
        <p:spPr>
          <a:xfrm rot="21183600">
            <a:off x="1115640" y="3715920"/>
            <a:ext cx="3817800" cy="283536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0" descr="images[3]"/>
          <p:cNvPicPr/>
          <p:nvPr/>
        </p:nvPicPr>
        <p:blipFill>
          <a:blip r:embed="rId2"/>
          <a:stretch/>
        </p:blipFill>
        <p:spPr>
          <a:xfrm rot="806400">
            <a:off x="5292360" y="259920"/>
            <a:ext cx="2612880" cy="32529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1" descr="images[53]"/>
          <p:cNvPicPr/>
          <p:nvPr/>
        </p:nvPicPr>
        <p:blipFill>
          <a:blip r:embed="rId3"/>
          <a:stretch/>
        </p:blipFill>
        <p:spPr>
          <a:xfrm rot="21066600">
            <a:off x="1476000" y="188640"/>
            <a:ext cx="2508120" cy="324000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2" descr="images[25]"/>
          <p:cNvPicPr/>
          <p:nvPr/>
        </p:nvPicPr>
        <p:blipFill>
          <a:blip r:embed="rId4"/>
          <a:stretch/>
        </p:blipFill>
        <p:spPr>
          <a:xfrm rot="420000">
            <a:off x="5795640" y="4149360"/>
            <a:ext cx="3030480" cy="225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200" spc="-1" strike="noStrike" u="sng">
                <a:solidFill>
                  <a:srgbClr val="0000c8"/>
                </a:solidFill>
                <a:uFillTx/>
                <a:latin typeface="Arial"/>
              </a:rPr>
              <a:t>Евкли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определяет призму как телесную фигуру, заключенную между двумя равными и параллельными плоскостями (основаниями) и с боковыми гранями - параллелограммами. Для того чтобы это определение было вполне корректным, следовало бы, однако, доказать, что плоскости, проходящие через пары непараллельных сторон оснований, пересекаются по параллельным прямым. Евклид употребляет термин “плоскость” как в широком смысле (рассматривая ее неограниченно продолженной во все направления), так и в смысле конечной, ограниченной ее части, в частност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гра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аналогично применению им термина “прямая” (в широком смысле - бесконечная прямая и в узком - отрезок). В XVIII в. </a:t>
            </a:r>
            <a:r>
              <a:rPr b="1" i="1" lang="en-US" sz="2200" spc="-1" strike="noStrike" u="sng">
                <a:solidFill>
                  <a:srgbClr val="0000c8"/>
                </a:solidFill>
                <a:uFillTx/>
                <a:latin typeface="Arial"/>
              </a:rPr>
              <a:t>Тейл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ал такое определени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изм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это многогранник, у которого все грани, кроме двух, параллельны одной прямой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Определение 1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Многогранник, две грани которого - одноименные многоугольники, лежащие в параллельных плоскостях, а любые два ребра, не лежащие в этих плоскостях, параллельны, называется </a:t>
            </a:r>
            <a:r>
              <a:rPr b="1" i="1" lang="en-US" sz="3200" spc="-1" strike="noStrike" u="sng">
                <a:solidFill>
                  <a:srgbClr val="0000c8"/>
                </a:solidFill>
                <a:uFillTx/>
                <a:latin typeface="Century Schoolbook"/>
              </a:rPr>
              <a:t>призм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Термин “призма”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греческого происхождения и буквально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значает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 “отпиленное” (тело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ногоугольники, лежащие в параллельных плоскостях, называют </a:t>
            </a:r>
            <a:r>
              <a:rPr b="0" i="1" lang="en-US" sz="2400" spc="-1" strike="noStrike" u="sng">
                <a:solidFill>
                  <a:srgbClr val="0000c8"/>
                </a:solidFill>
                <a:uFillTx/>
                <a:latin typeface="Arial"/>
              </a:rPr>
              <a:t>основаниями призм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а остальные грани - </a:t>
            </a:r>
            <a:r>
              <a:rPr b="0" i="1" lang="en-US" sz="2400" spc="-1" strike="noStrike" u="sng">
                <a:solidFill>
                  <a:srgbClr val="0000c8"/>
                </a:solidFill>
                <a:uFillTx/>
                <a:latin typeface="Arial"/>
              </a:rPr>
              <a:t>боковыми гранями.</a:t>
            </a:r>
            <a:br>
              <a:rPr sz="2400"/>
            </a:b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верхность призмы, таким образом, состоит из двух равных многоугольников (оснований) и параллелограммов (боковых граней). Различают призмы 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треугольные, четырехугольные, пятиугольные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и т.д. в зависимости от числа вершин осн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Picture 7" descr="247011621"/>
          <p:cNvPicPr/>
          <p:nvPr/>
        </p:nvPicPr>
        <p:blipFill>
          <a:blip r:embed="rId1"/>
          <a:stretch/>
        </p:blipFill>
        <p:spPr>
          <a:xfrm>
            <a:off x="3378240" y="0"/>
            <a:ext cx="5765760" cy="335268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334800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Все призмы делятся на </a:t>
            </a:r>
            <a:r>
              <a:rPr b="1" i="1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прямые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и </a:t>
            </a:r>
            <a:r>
              <a:rPr b="1" i="1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наклонные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108000" y="3473280"/>
            <a:ext cx="903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Если боковое ребро призмы перпендикулярно плоскости ее основания, то такую призму называют </a:t>
            </a:r>
            <a:r>
              <a:rPr b="0" i="1" lang="en-US" sz="2700" spc="-1" strike="noStrike" u="sng">
                <a:solidFill>
                  <a:srgbClr val="0000c8"/>
                </a:solidFill>
                <a:uFillTx/>
                <a:latin typeface="Arial"/>
              </a:rPr>
              <a:t>прямой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; если боковое ребро призмы не перпендикулярно плоскости ее основания, то такую призму называют </a:t>
            </a:r>
            <a:r>
              <a:rPr b="0" i="1" lang="en-US" sz="2700" spc="-1" strike="noStrike" u="sng">
                <a:solidFill>
                  <a:srgbClr val="0000c8"/>
                </a:solidFill>
                <a:uFillTx/>
                <a:latin typeface="Arial"/>
              </a:rPr>
              <a:t>наклонной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У прямой призмы боковые грани - прямоугольники. Перпендикуляр к плоскостям оснований, концы которого принадлежат этим плоскостям, называют </a:t>
            </a:r>
            <a:r>
              <a:rPr b="0" i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высотой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измы. 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 u="sng">
                <a:solidFill>
                  <a:srgbClr val="ffffff"/>
                </a:solidFill>
                <a:uFillTx/>
                <a:latin typeface="Arial"/>
              </a:rPr>
              <a:t>Свойства призмы.</a:t>
            </a: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Основания призмы являются равными многоугольниками.</a:t>
            </a:r>
            <a:br>
              <a:rPr sz="3600"/>
            </a:b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Боковые грани призмы являются           параллелограммами.       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Боковые ребра призмы рав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99"/>
                </a:solidFill>
                <a:uFillTx/>
                <a:latin typeface="Arial"/>
              </a:rPr>
              <a:t>Сечение призмы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651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Сечение призмы плоскостью, параллельной основанию. В сечении образуется многоугольник, равный многоугольнику, лежащему в основа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Сечение призмы плоскостью, проходящей через два не соседних боковых ребра. В сечении образуется параллелограмм. Такое сечение называется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диагональным сечение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ризмы. В некоторых случаях может получаться ромб, прямоугольник или квадра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0" name="Picture 4" descr="p0143"/>
          <p:cNvPicPr/>
          <p:nvPr/>
        </p:nvPicPr>
        <p:blipFill>
          <a:blip r:embed="rId1"/>
          <a:stretch/>
        </p:blipFill>
        <p:spPr>
          <a:xfrm>
            <a:off x="5364000" y="755640"/>
            <a:ext cx="3780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Сечение ПРИЗМ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3" name="Picture 4" descr="geo15a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Определение 2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рямая призма, основанием которой служит правильный многоугольник, называется </a:t>
            </a:r>
            <a:r>
              <a:rPr b="1" i="1" lang="en-US" sz="3200" spc="-1" strike="noStrike" u="sng">
                <a:solidFill>
                  <a:srgbClr val="0000c8"/>
                </a:solidFill>
                <a:uFillTx/>
                <a:latin typeface="Tahoma"/>
              </a:rPr>
              <a:t>правильной</a:t>
            </a:r>
            <a:r>
              <a:rPr b="0" i="1" lang="en-US" sz="3200" spc="-1" strike="noStrike" u="sng">
                <a:solidFill>
                  <a:srgbClr val="0000c8"/>
                </a:solidFill>
                <a:uFillTx/>
                <a:latin typeface="Tahoma"/>
              </a:rPr>
              <a:t> призм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Свойства правильной призмы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 Основания правильной призмы являются правильными многоугольниками.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 Боковые грани правильной призмы являются равными прямоугольниками.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 Боковые ребра правильной призмы рав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1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Picture 4" descr="прямая призма"/>
          <p:cNvPicPr/>
          <p:nvPr/>
        </p:nvPicPr>
        <p:blipFill>
          <a:blip r:embed="rId1"/>
          <a:stretch/>
        </p:blipFill>
        <p:spPr>
          <a:xfrm>
            <a:off x="5940360" y="1773360"/>
            <a:ext cx="3203640" cy="3095640"/>
          </a:xfrm>
          <a:prstGeom prst="rect">
            <a:avLst/>
          </a:prstGeom>
          <a:ln w="0">
            <a:noFill/>
          </a:ln>
        </p:spPr>
      </p:pic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Сечение правильной призм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6948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Сечение правильной призмы плоскостью, параллельной основанию. В сечении образуется правильный многоугольник, равный многоугольнику, лежащему в основан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Сечение правильной призмы плоскостью, проходящей через два не соседних боковых ребра. В сечении образуется прямоугольник. В некоторых случаях может образоваться квадра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6:23:03Z</dcterms:created>
  <dc:creator>Admin</dc:creator>
  <dc:description/>
  <dc:language>en-US</dc:language>
  <cp:lastModifiedBy>1</cp:lastModifiedBy>
  <dcterms:modified xsi:type="dcterms:W3CDTF">2010-04-15T14:45:12Z</dcterms:modified>
  <cp:revision>15</cp:revision>
  <dc:subject/>
  <dc:title>ПРИЗМА.</dc:title>
</cp:coreProperties>
</file>