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3.png" ContentType="image/png"/>
  <Override PartName="/ppt/media/image22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15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FB6-73B6-4FAD-A1C8-EDD9E54F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DE6-5390-4809-AC2A-D0DE4B0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F63-021F-4308-B9E3-FBF09EBC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54A-2A0B-44F7-B0ED-E215EBC7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8ED-7BEA-4F4D-93B1-DDBF8D36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C800-F0AA-419D-82AA-FEF7116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399-3EBA-4210-A869-DC01899A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E39-44FC-40A7-ACBC-5D477EF0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3954-5015-423A-AF0C-DFCB61B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ED6-31A3-4278-B636-4E1B4AE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412-5DCC-4F37-8AC7-920E5B3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361-5F90-49BB-958A-D3538FE0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42C1-FC09-4ED5-B92C-4CAF820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1156-A0A8-45E3-B001-375F81B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A993-E360-481D-8D27-1842CBA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4DF-0639-4D28-AE32-92E66857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BA2-1D25-447B-814D-F82124AA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0E98-5FCA-4300-A9A7-CBE5263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E328-6B9F-4577-AA5F-414E7FF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7D0C-D18E-4430-8D12-C7689AB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9A48-CF17-4897-8534-5E652A0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5E4D-8A89-4333-AB21-C03591B1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C62-F59B-4B27-9CC7-1FC71276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30A9-16B1-4DAA-9A33-BAA2C85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65D3-AC4B-4BA4-9766-F64E035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23C6-4CFB-4972-877E-328DD8A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E18D-2069-49E3-9D54-2320237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7954-6D72-491C-B181-F941FC2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36B4-35FD-4E91-AB21-B4A6C16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C87A-EE77-4216-9189-202F3626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DAF-538B-45E1-8771-F17CC77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FEF-AC81-496A-B73A-6B84B99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E25-7116-49B0-8A69-8926AD8E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440-1F27-41A2-9386-7C82E36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2B9-F2FA-41CB-B55F-6D48781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B57-047B-40F2-B56E-3C36503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F29-E9BA-4B58-8395-E22038762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C27F-6C0B-444E-BF32-B0058A2C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280-EE82-4912-BF6C-9A1B7462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4" descr=""/>
          <p:cNvPicPr/>
          <p:nvPr/>
        </p:nvPicPr>
        <p:blipFill>
          <a:blip r:embed="rId2"/>
          <a:stretch/>
        </p:blipFill>
        <p:spPr>
          <a:xfrm>
            <a:off x="420840" y="706320"/>
            <a:ext cx="8242200" cy="4945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92360" y="4292640"/>
            <a:ext cx="64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ели: Хомякова М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айская А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рина А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бергардт 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hh01114_"/>
          <p:cNvPicPr/>
          <p:nvPr/>
        </p:nvPicPr>
        <p:blipFill>
          <a:blip r:embed="rId2"/>
          <a:stretch/>
        </p:blipFill>
        <p:spPr>
          <a:xfrm>
            <a:off x="609480" y="1752480"/>
            <a:ext cx="18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h00818_"/>
          <p:cNvPicPr/>
          <p:nvPr/>
        </p:nvPicPr>
        <p:blipFill>
          <a:blip r:embed="rId3"/>
          <a:stretch/>
        </p:blipFill>
        <p:spPr>
          <a:xfrm>
            <a:off x="5867280" y="2362320"/>
            <a:ext cx="2562480" cy="1038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hh00816_"/>
          <p:cNvPicPr/>
          <p:nvPr/>
        </p:nvPicPr>
        <p:blipFill>
          <a:blip r:embed="rId4"/>
          <a:stretch/>
        </p:blipFill>
        <p:spPr>
          <a:xfrm>
            <a:off x="1752480" y="3733920"/>
            <a:ext cx="1828800" cy="13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6" name="Picture 9" descr="hh00815_"/>
          <p:cNvPicPr/>
          <p:nvPr/>
        </p:nvPicPr>
        <p:blipFill>
          <a:blip r:embed="rId5"/>
          <a:stretch/>
        </p:blipFill>
        <p:spPr>
          <a:xfrm>
            <a:off x="3657600" y="1752480"/>
            <a:ext cx="132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bs00932_"/>
          <p:cNvPicPr/>
          <p:nvPr/>
        </p:nvPicPr>
        <p:blipFill>
          <a:blip r:embed="rId6"/>
          <a:stretch/>
        </p:blipFill>
        <p:spPr>
          <a:xfrm>
            <a:off x="4724280" y="3505320"/>
            <a:ext cx="2438640" cy="180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d10039_"/>
          <p:cNvPicPr/>
          <p:nvPr/>
        </p:nvPicPr>
        <p:blipFill>
          <a:blip r:embed="rId7"/>
          <a:stretch/>
        </p:blipFill>
        <p:spPr>
          <a:xfrm>
            <a:off x="6553080" y="5029200"/>
            <a:ext cx="2044800" cy="171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bd09199_"/>
          <p:cNvPicPr/>
          <p:nvPr/>
        </p:nvPicPr>
        <p:blipFill>
          <a:blip r:embed="rId8"/>
          <a:stretch/>
        </p:blipFill>
        <p:spPr>
          <a:xfrm>
            <a:off x="609480" y="5257800"/>
            <a:ext cx="1444680" cy="1343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3"/>
          <p:cNvSpPr txBox="1"/>
          <p:nvPr/>
        </p:nvSpPr>
        <p:spPr>
          <a:xfrm>
            <a:off x="838080" y="4572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нение призмы в быту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8929800" cy="588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з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 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торого гра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ходят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лл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оскост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WordArt 20"/>
          <p:cNvSpPr txBox="1"/>
          <p:nvPr/>
        </p:nvSpPr>
        <p:spPr>
          <a:xfrm>
            <a:off x="2743200" y="533520"/>
            <a:ext cx="36576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м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70c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22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32130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7760" y="214200"/>
            <a:ext cx="1952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c:\Users\Маша\Pictures\призма.jpg"/>
          <p:cNvPicPr/>
          <p:nvPr/>
        </p:nvPicPr>
        <p:blipFill>
          <a:blip r:embed="rId2"/>
          <a:stretch/>
        </p:blipFill>
        <p:spPr>
          <a:xfrm>
            <a:off x="2571840" y="1071720"/>
            <a:ext cx="3143160" cy="4314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11"/>
          <p:cNvCxnSpPr/>
          <p:nvPr/>
        </p:nvCxnSpPr>
        <p:spPr>
          <a:xfrm flipV="1">
            <a:off x="3714840" y="4357080"/>
            <a:ext cx="429120" cy="178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Прямая со стрелкой 13"/>
          <p:cNvCxnSpPr/>
          <p:nvPr/>
        </p:nvCxnSpPr>
        <p:spPr>
          <a:xfrm>
            <a:off x="4142160" y="856800"/>
            <a:ext cx="358200" cy="178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14"/>
          <p:cNvSpPr/>
          <p:nvPr/>
        </p:nvSpPr>
        <p:spPr>
          <a:xfrm>
            <a:off x="3929040" y="5929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429240" y="3714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0" y="471492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2971"/>
                </a:solidFill>
                <a:latin typeface="Times New Roman"/>
              </a:rPr>
              <a:t>боковое реб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Прямая со стрелкой 19"/>
          <p:cNvCxnSpPr/>
          <p:nvPr/>
        </p:nvCxnSpPr>
        <p:spPr>
          <a:xfrm flipV="1">
            <a:off x="1428480" y="3785400"/>
            <a:ext cx="1786680" cy="857880"/>
          </a:xfrm>
          <a:prstGeom prst="straightConnector1">
            <a:avLst/>
          </a:prstGeom>
          <a:ln w="38160">
            <a:solidFill>
              <a:srgbClr val="382971"/>
            </a:solidFill>
            <a:miter/>
            <a:tailEnd len="med" type="arrow" w="med"/>
          </a:ln>
        </p:spPr>
      </p:cxnSp>
      <p:cxnSp>
        <p:nvCxnSpPr>
          <p:cNvPr id="136" name="Прямая со стрелкой 21"/>
          <p:cNvCxnSpPr/>
          <p:nvPr/>
        </p:nvCxnSpPr>
        <p:spPr>
          <a:xfrm flipH="1" flipV="1">
            <a:off x="5071320" y="3428280"/>
            <a:ext cx="1429560" cy="2149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2895480" y="533520"/>
            <a:ext cx="3581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приз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1219320" y="1143000"/>
            <a:ext cx="1676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495680" y="12952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91320" y="1143000"/>
            <a:ext cx="160020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533520" y="2895480"/>
            <a:ext cx="1523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ая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0"/>
          <p:cNvSpPr txBox="1"/>
          <p:nvPr/>
        </p:nvSpPr>
        <p:spPr>
          <a:xfrm>
            <a:off x="3581280" y="3429000"/>
            <a:ext cx="1752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ая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11"/>
          <p:cNvSpPr txBox="1"/>
          <p:nvPr/>
        </p:nvSpPr>
        <p:spPr>
          <a:xfrm>
            <a:off x="6629400" y="2971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клонная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44" name="Object 12"/>
          <p:cNvGraphicFramePr/>
          <p:nvPr/>
        </p:nvGraphicFramePr>
        <p:xfrm>
          <a:off x="223920" y="4124160"/>
          <a:ext cx="2835360" cy="229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920" y="4124160"/>
                    <a:ext cx="2835360" cy="22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Line 13"/>
          <p:cNvSpPr/>
          <p:nvPr/>
        </p:nvSpPr>
        <p:spPr>
          <a:xfrm>
            <a:off x="11430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6934320" y="4038480"/>
          <a:ext cx="1611360" cy="221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4038480"/>
                    <a:ext cx="1611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8"/>
          <p:cNvGraphicFramePr/>
          <p:nvPr/>
        </p:nvGraphicFramePr>
        <p:xfrm>
          <a:off x="3657600" y="4267080"/>
          <a:ext cx="1801800" cy="198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4267080"/>
                    <a:ext cx="1801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Line 19"/>
          <p:cNvSpPr/>
          <p:nvPr/>
        </p:nvSpPr>
        <p:spPr>
          <a:xfrm>
            <a:off x="44956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76960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3952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ямая приз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призма боковые рёбра которой перпендикулярны основаниям. Каждое из рёбер является её высотой. Боковые грани – прямо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4952880" y="1219320"/>
          <a:ext cx="381024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219320"/>
                    <a:ext cx="38102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WordArt 7"/>
          <p:cNvSpPr txBox="1"/>
          <p:nvPr/>
        </p:nvSpPr>
        <p:spPr>
          <a:xfrm>
            <a:off x="5486400" y="4724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7543800" y="480060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8229600" y="403848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248520" y="3733920"/>
            <a:ext cx="190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5486400" y="2819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7315200" y="274320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15"/>
          <p:cNvSpPr txBox="1"/>
          <p:nvPr/>
        </p:nvSpPr>
        <p:spPr>
          <a:xfrm>
            <a:off x="8229600" y="2133720"/>
            <a:ext cx="190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WordArt 17"/>
          <p:cNvSpPr txBox="1"/>
          <p:nvPr/>
        </p:nvSpPr>
        <p:spPr>
          <a:xfrm>
            <a:off x="6400800" y="205740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7543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8458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6629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642600"/>
            <a:ext cx="38098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ьная пр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призма, основания которой-правильные много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5257800" y="1066680"/>
          <a:ext cx="339552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1066680"/>
                    <a:ext cx="3395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1000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клонная призма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то призма, боковые рёбра которой не перпендикулярны основан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810400" y="1752480"/>
          <a:ext cx="19414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10400" y="1752480"/>
                    <a:ext cx="1941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2"/>
          <a:stretch/>
        </p:blipFill>
        <p:spPr>
          <a:xfrm>
            <a:off x="298440" y="-237960"/>
            <a:ext cx="8832960" cy="2073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9807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2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ямой приз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2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bd06453_"/>
          <p:cNvPicPr/>
          <p:nvPr/>
        </p:nvPicPr>
        <p:blipFill>
          <a:blip r:embed="rId2"/>
          <a:stretch/>
        </p:blipFill>
        <p:spPr>
          <a:xfrm>
            <a:off x="3429000" y="4419720"/>
            <a:ext cx="2133720" cy="2125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ph02053j"/>
          <p:cNvPicPr/>
          <p:nvPr/>
        </p:nvPicPr>
        <p:blipFill>
          <a:blip r:embed="rId3"/>
          <a:stretch/>
        </p:blipFill>
        <p:spPr>
          <a:xfrm>
            <a:off x="6019920" y="251460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r00656_"/>
          <p:cNvPicPr/>
          <p:nvPr/>
        </p:nvPicPr>
        <p:blipFill>
          <a:blip r:embed="rId4"/>
          <a:stretch/>
        </p:blipFill>
        <p:spPr>
          <a:xfrm>
            <a:off x="3657600" y="1981080"/>
            <a:ext cx="1622520" cy="2133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j0145824"/>
          <p:cNvPicPr/>
          <p:nvPr/>
        </p:nvPicPr>
        <p:blipFill>
          <a:blip r:embed="rId5"/>
          <a:stretch/>
        </p:blipFill>
        <p:spPr>
          <a:xfrm>
            <a:off x="228600" y="2057400"/>
            <a:ext cx="2556000" cy="39625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19"/>
          <p:cNvSpPr txBox="1"/>
          <p:nvPr/>
        </p:nvSpPr>
        <p:spPr>
          <a:xfrm>
            <a:off x="571680" y="714240"/>
            <a:ext cx="8076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нение призмы в архитектуре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4:36:55Z</dcterms:created>
  <dc:creator>Volodja</dc:creator>
  <dc:description/>
  <dc:language>en-US</dc:language>
  <cp:lastModifiedBy>Магеря</cp:lastModifiedBy>
  <dcterms:modified xsi:type="dcterms:W3CDTF">2010-04-22T03:46:48Z</dcterms:modified>
  <cp:revision>31</cp:revision>
  <dc:subject/>
  <dc:title>Призма.</dc:title>
</cp:coreProperties>
</file>